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7088400" cy="102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5"/>
          </p:nvPr>
        </p:nvSpPr>
        <p:spPr>
          <a:xfrm>
            <a:off x="4012920" y="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990720" y="764640"/>
            <a:ext cx="5106960" cy="383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move the slide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6"/>
          </p:nvPr>
        </p:nvSpPr>
        <p:spPr>
          <a:xfrm>
            <a:off x="-36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7"/>
          </p:nvPr>
        </p:nvSpPr>
        <p:spPr>
          <a:xfrm>
            <a:off x="401292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F06A34-663B-4DE6-B47D-B4F30F802A54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CD0AC3-C528-4F51-B659-14E70AB397A6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04D2F6-E46A-4729-8BA5-FD2298CE3FEF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CFBD91-DBF7-4C5F-9ABF-C9553C6C8BBB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1DE9F5-E064-41FD-9D4B-CC260DA41076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3AC8B7-293F-4F79-9E34-A6ECFBED7CC2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A92B6E-46EA-46E2-8E3A-B2F49A9BC948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C6764E-8880-45F4-8B57-17CD21526DAB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325526-3AC6-4784-97BA-32BC1FB83EEA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ED928F-9D45-444C-ADC2-EB030D1D9A0A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493632-EF04-40A2-9AC3-FC304B5ED6D0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B7CF01-631E-4AF9-A02F-0F4ABF7D6F2A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B9C54E-ECBE-4FD8-95DB-EF0BD2BF675D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EBE520-BC07-4113-A494-775380F69975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0F4530-CEA3-45A2-88F6-60DB7DE19B75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4E0B4F-1C09-49A2-A4D1-149993C2E80B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FE4DE-23D9-47A1-A3CE-56F4AD2B05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E8B00-F448-4118-9A15-CC748AA68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74714-B33A-41F5-8902-BCC344AEBC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27D7E-6995-4600-9928-4634411F8C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8EBE6-EC62-473B-B78D-2F1BE809C6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7B42F-7554-44BA-8444-8BEB3773D0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5813E-41B8-439F-B241-26E235ECF6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42C9D-D7A8-405C-AD9E-D11BDF76BD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EEC41-5D2C-43F0-97CD-6368B38206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290AA-6715-4052-A853-B94CF2C59E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70406-0D42-42E4-8F95-3315B6B486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395EE-14B5-444C-80CB-E87906934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FD037-A58E-43F7-AFBA-E3BEA11A3E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ACEAA-1548-4B55-B392-E84A312FC5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99BD1-C086-4089-8D69-CD111A7BB9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0EA69-5ECB-48A9-9A39-67FAE42E04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DD362-AA12-406F-8F95-B08C4182EC7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713A-C758-4BC8-A5A1-89F1C9FE00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4EE2-ABCE-471F-9EA7-268B1BEE8C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43D7-6B0A-4A99-9C5C-6BC8C37D95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A3B3-88C6-4A21-890E-C7902E1BE7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CFFD-C151-42A8-84B5-2716D0CBEB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D47EB-6413-40D2-BED2-108197CA2F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E5C2-46DA-47ED-8FD0-E04AC84469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9EC1-DCDE-44EB-894B-F238A818C6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6AFE-CCB8-4C3A-806B-DE697C3CE82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C197-D3AA-465C-B1C3-33F766717B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7A49-1CA6-47B5-9F2E-6F0B9EFD34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5A40-5AFB-4553-9C59-C10E48C14A0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7F1C-05F3-46E0-B654-2E194C9060F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8F896-D71E-44BF-A9D5-BA2EDD829E0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0C488-98C5-4785-A3F9-C28E6AC2942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3AE43-0757-45DC-BAF5-7FC9FCEACA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7EAAA-9860-4548-B71F-2FABF788DC0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BF902-78AB-4BF4-B94D-F2408AFACD8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3139E-041A-4800-A2E1-54A48DAC1B0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DAFEC-0409-4DE4-B958-D71EB0B1FD1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C425B-0656-4BA4-9A42-5BD72A29271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8C267-542B-412D-B240-647DA86F511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209BF-DAA0-44ED-A8EF-423916747AD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B5A82-D4D4-4704-B2FE-71871F2F66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4C4BE-B6C4-4991-A37E-40D515E575E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0483D-F4E9-44C0-A389-B9F1A1D39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D942E-D040-4FF9-91F4-86EC04126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3F477-C11C-4579-8D61-75EFFD689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4FBE5-8E1B-433B-AC8C-3B8542E518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6238-2D72-42A5-A9A1-D6FEBF13A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93AD0-5B72-46DE-B915-CE2150260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264A-5EBE-49E6-ABC3-487932C2909F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6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3230640" y="4413240"/>
            <a:ext cx="2800440" cy="1924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6433-646F-4106-BC7D-FAA9A0EBF571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角丸四角形 6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7BF9-7E41-4A93-816D-8C6BA4DF759B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5973840" y="4413240"/>
            <a:ext cx="2800440" cy="1924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D0EB-0314-4945-B125-55F6317AAAF3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AC13-3080-491F-B703-B58604FB0BFA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F645-3141-4B2B-B576-DE8FA115C0A7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22040" y="1112400"/>
            <a:ext cx="7380360" cy="26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0" lang="ja-JP" sz="28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4000"/>
            </a:b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年モデル審査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のポイント</a:t>
            </a:r>
            <a:br>
              <a:rPr sz="4000"/>
            </a:b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2077920" y="2728800"/>
            <a:ext cx="5078520" cy="3767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エクセレントモデル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34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BCA8-F9E7-41B7-AA18-3B38CBA3F5C8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2038320" y="996840"/>
            <a:ext cx="5181480" cy="3868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3"/>
          <a:stretch/>
        </p:blipFill>
        <p:spPr>
          <a:xfrm>
            <a:off x="204840" y="2192400"/>
            <a:ext cx="4224240" cy="3157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4"/>
          <a:stretch/>
        </p:blipFill>
        <p:spPr>
          <a:xfrm>
            <a:off x="4681440" y="2187720"/>
            <a:ext cx="4227480" cy="31478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8"/>
          <p:cNvSpPr/>
          <p:nvPr/>
        </p:nvSpPr>
        <p:spPr>
          <a:xfrm>
            <a:off x="394920" y="2443320"/>
            <a:ext cx="61020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4281840" y="1298520"/>
            <a:ext cx="61020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7728840" y="2401920"/>
            <a:ext cx="82368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振舞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"/>
          <p:cNvSpPr/>
          <p:nvPr/>
        </p:nvSpPr>
        <p:spPr>
          <a:xfrm>
            <a:off x="3754440" y="5857920"/>
            <a:ext cx="169056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要素技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10840" y="2923920"/>
            <a:ext cx="729612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今年のポイント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95F8-9414-4A3C-BC08-977FE263B03B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振り返り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アンケート結果から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審査結果の公開や、審査結果に関するより多くのフィードバックを希望する声が多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他チームとの相対的な位置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より多くのコメント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モデル審査の内容や基準に対する意見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性能モデルが実験レポートに傾倒し過ぎ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技術教育に対する要望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もっと初心者向けの内容を増やして欲し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審査工数の激増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参加チーム、モデル密度がそれぞれ増す中、モデル審査にかかる時間も年々増大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この方法で、より詳細なフィードバックや審査内容の追加は不可能！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3917-0EFF-474B-AB57-7D5C6D4A29D3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でのチャレンジ（そ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全員参加の「いいね！」型モデル審査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今の審査結果は参加チームへの一方的な通知表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審査する側、される側という意識が、みんなで大会を作っていくというロボコンのあり方を希薄化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いまのフィードバックだけでは、審査委員個々の思いやコメントが伝えきれな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「審査委員会」だけでなく、参加チームも審査に参加することで公平感・納得感を高めた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参加チームからの投票を受け付ける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最終評価は、審査委員会の評価と参加チームの投票結果により決定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審査委員それぞれの評価や、一押しモデルも積極的に公開することで審査委員の「顔が見える」審査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まずは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S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のみでの採用を検討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AD62-E8F8-4A23-8301-90F383504FD1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でのチャレンジ（そ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モデリング初心者にフォーカスした教育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これまでの教育資料は、初心者～経験者までを広くカバーすることを目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リング、実装、プロセスまで及び、すべての習得は困難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とくに、初心者に対するハードルが高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リングによる「うれしさ」よりも「たいへんさ」が先行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今年は、スキルアップの前に、まずは「モデリング」の価値を実感してもらうように方向転換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ルを「作る」ことは大切だが、まず最初は「使う」のが先！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すでに用意された「モデル」をつかって、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ロボコンの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Hello world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（＝ライントレース）」を作ることにトライ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</a:rPr>
              <a:t>「モデルを使うとこんなに開発が楽なんだ！」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総合的な教材として、今までの教材の提供も併用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実際の進め方（ツールの活用、時間配分等）は今後検討予定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7C75-33AF-4580-BCE0-010FC80EF5B1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11200" y="2923920"/>
            <a:ext cx="708336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今年もよろしくお願いします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5748-8BD1-491B-B5D1-DC80CD73B052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目次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モデル審査について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今年のポイント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744C-1064-4434-B030-B8226CECF426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11200" y="2923920"/>
            <a:ext cx="708336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モデル審査について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FA8B-4185-49B7-A976-4C37C6F17EE5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モデル審査基準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5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CE04-A791-47E2-ABB0-F3FA0ADEBB93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グループ化 16"/>
          <p:cNvGrpSpPr/>
          <p:nvPr/>
        </p:nvGrpSpPr>
        <p:grpSpPr>
          <a:xfrm>
            <a:off x="204840" y="1608120"/>
            <a:ext cx="4189320" cy="1623960"/>
            <a:chOff x="204840" y="1608120"/>
            <a:chExt cx="4189320" cy="1623960"/>
          </a:xfrm>
        </p:grpSpPr>
        <p:pic>
          <p:nvPicPr>
            <p:cNvPr id="187" name="コンテンツ プレースホルダ 17" descr=""/>
            <p:cNvPicPr/>
            <p:nvPr/>
          </p:nvPicPr>
          <p:blipFill>
            <a:blip r:embed="rId1"/>
            <a:stretch/>
          </p:blipFill>
          <p:spPr>
            <a:xfrm>
              <a:off x="347400" y="1608120"/>
              <a:ext cx="3980880" cy="16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角丸四角形 7"/>
            <p:cNvSpPr/>
            <p:nvPr/>
          </p:nvSpPr>
          <p:spPr>
            <a:xfrm>
              <a:off x="204840" y="1636920"/>
              <a:ext cx="4189320" cy="15440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グループ化 18"/>
          <p:cNvGrpSpPr/>
          <p:nvPr/>
        </p:nvGrpSpPr>
        <p:grpSpPr>
          <a:xfrm>
            <a:off x="193680" y="3429000"/>
            <a:ext cx="4159080" cy="1849320"/>
            <a:chOff x="193680" y="3429000"/>
            <a:chExt cx="4159080" cy="1849320"/>
          </a:xfrm>
        </p:grpSpPr>
        <p:pic>
          <p:nvPicPr>
            <p:cNvPr id="190" name="コンテンツ プレースホルダ 17" descr=""/>
            <p:cNvPicPr/>
            <p:nvPr/>
          </p:nvPicPr>
          <p:blipFill>
            <a:blip r:embed="rId2"/>
            <a:stretch/>
          </p:blipFill>
          <p:spPr>
            <a:xfrm>
              <a:off x="383760" y="3431880"/>
              <a:ext cx="391968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角丸四角形 8"/>
            <p:cNvSpPr/>
            <p:nvPr/>
          </p:nvSpPr>
          <p:spPr>
            <a:xfrm>
              <a:off x="193680" y="3429000"/>
              <a:ext cx="4159080" cy="181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</a:rPr>
                <a:t>　　　　　　　　　　　　　　　　　　　　　　　　　　　　　　　　　　　　　　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グループ化 17"/>
          <p:cNvGrpSpPr/>
          <p:nvPr/>
        </p:nvGrpSpPr>
        <p:grpSpPr>
          <a:xfrm>
            <a:off x="4535640" y="1596960"/>
            <a:ext cx="4376520" cy="4818240"/>
            <a:chOff x="4535640" y="1596960"/>
            <a:chExt cx="4376520" cy="4818240"/>
          </a:xfrm>
        </p:grpSpPr>
        <p:pic>
          <p:nvPicPr>
            <p:cNvPr id="193" name="コンテンツ プレースホルダ 17" descr=""/>
            <p:cNvPicPr/>
            <p:nvPr/>
          </p:nvPicPr>
          <p:blipFill>
            <a:blip r:embed="rId3"/>
            <a:stretch/>
          </p:blipFill>
          <p:spPr>
            <a:xfrm>
              <a:off x="4535640" y="1901880"/>
              <a:ext cx="4188240" cy="39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角丸四角形 9"/>
            <p:cNvSpPr/>
            <p:nvPr/>
          </p:nvSpPr>
          <p:spPr>
            <a:xfrm>
              <a:off x="4547520" y="1596960"/>
              <a:ext cx="4364640" cy="4818240"/>
            </a:xfrm>
            <a:custGeom>
              <a:avLst/>
              <a:gdLst>
                <a:gd name="textAreaLeft" fmla="*/ 212760 w 4364640"/>
                <a:gd name="textAreaRight" fmla="*/ 4151880 w 4364640"/>
                <a:gd name="textAreaTop" fmla="*/ 212760 h 4818240"/>
                <a:gd name="textAreaBottom" fmla="*/ 4605480 h 4818240"/>
              </a:gdLst>
              <a:ahLst/>
              <a:rect l="textAreaLeft" t="textAreaTop" r="textAreaRight" b="textAreaBottom"/>
              <a:pathLst>
                <a:path w="21600" h="23845">
                  <a:moveTo>
                    <a:pt x="3600" y="0"/>
                  </a:moveTo>
                  <a:arcTo wR="3600" hR="3600" stAng="16200000" swAng="-5400000"/>
                  <a:lnTo>
                    <a:pt x="0" y="20245"/>
                  </a:lnTo>
                  <a:arcTo wR="3600" hR="3600" stAng="10800000" swAng="-5400000"/>
                  <a:lnTo>
                    <a:pt x="18000" y="238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グループ化 19"/>
          <p:cNvGrpSpPr/>
          <p:nvPr/>
        </p:nvGrpSpPr>
        <p:grpSpPr>
          <a:xfrm>
            <a:off x="219240" y="4538520"/>
            <a:ext cx="4160520" cy="1847880"/>
            <a:chOff x="219240" y="4538520"/>
            <a:chExt cx="4160520" cy="1847880"/>
          </a:xfrm>
        </p:grpSpPr>
        <p:sp>
          <p:nvSpPr>
            <p:cNvPr id="196" name="角丸四角形 10"/>
            <p:cNvSpPr/>
            <p:nvPr/>
          </p:nvSpPr>
          <p:spPr>
            <a:xfrm>
              <a:off x="219240" y="5539320"/>
              <a:ext cx="4160520" cy="800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</a:rPr>
                <a:t>　　　　　　　　　　　　　　　　　　　　　　　　　　　　　　　　　　　　　　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コンテンツ プレースホルダ 17" descr=""/>
            <p:cNvPicPr/>
            <p:nvPr/>
          </p:nvPicPr>
          <p:blipFill>
            <a:blip r:embed="rId4"/>
            <a:stretch/>
          </p:blipFill>
          <p:spPr>
            <a:xfrm>
              <a:off x="365760" y="4538520"/>
              <a:ext cx="3864600" cy="184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テキスト ボックス 12"/>
          <p:cNvSpPr/>
          <p:nvPr/>
        </p:nvSpPr>
        <p:spPr>
          <a:xfrm>
            <a:off x="589320" y="3456000"/>
            <a:ext cx="1140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製品やソフトウェ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に求められるもの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何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テキスト ボックス 13"/>
          <p:cNvSpPr/>
          <p:nvPr/>
        </p:nvSpPr>
        <p:spPr>
          <a:xfrm>
            <a:off x="5601240" y="1830240"/>
            <a:ext cx="2100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要求を実現するために必要な動作内容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それを実現するための仕組みが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正しく、複雑にならないよう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検討され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テキスト ボックス 14"/>
          <p:cNvSpPr/>
          <p:nvPr/>
        </p:nvSpPr>
        <p:spPr>
          <a:xfrm>
            <a:off x="6535080" y="4603680"/>
            <a:ext cx="124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性能向上に必要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技術や戦略が十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に検討され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テキスト ボックス 15"/>
          <p:cNvSpPr/>
          <p:nvPr/>
        </p:nvSpPr>
        <p:spPr>
          <a:xfrm>
            <a:off x="7067880" y="582120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各モデルの内容が、相互に確認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追跡可能で一貫性があ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コンテンツ プレースホルダ 2"/>
          <p:cNvSpPr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大きく、以下の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つのカテゴリから構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テキスト ボックス 20"/>
          <p:cNvSpPr/>
          <p:nvPr/>
        </p:nvSpPr>
        <p:spPr>
          <a:xfrm>
            <a:off x="825840" y="2606760"/>
            <a:ext cx="92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正しく、わかりやす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書け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テキスト ボックス 21"/>
          <p:cNvSpPr/>
          <p:nvPr/>
        </p:nvSpPr>
        <p:spPr>
          <a:xfrm>
            <a:off x="2754720" y="5581800"/>
            <a:ext cx="15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新しい試みや日常の開発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出来ないことへのチャレン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があ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モデル審査の方法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審査基準の各項目を以下の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つのレベルで評価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素晴らし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良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不十分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再検討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各項目の評価レベルを点数化し、さらに重みを加味して、最終評価点を算出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評価点に応じて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　までの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段階のレベルを付与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7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3162-C6AE-45FF-BC87-B0289F6D867E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各チームへのフィードバック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設計面と性能面に分けて、「良かった点」「気になった点」をそれぞれコメントとして記述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275A-FCD9-4B9F-A76A-D4E0CDC791F1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870120" y="2036880"/>
            <a:ext cx="7719840" cy="42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のモデル審査結果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1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2904-B064-4420-9390-B2A2B787AA30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0" y="941400"/>
            <a:ext cx="5861160" cy="3524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3611520" y="3370320"/>
            <a:ext cx="5427720" cy="31129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1"/>
          <p:cNvSpPr/>
          <p:nvPr/>
        </p:nvSpPr>
        <p:spPr>
          <a:xfrm>
            <a:off x="6051600" y="2395440"/>
            <a:ext cx="8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素晴らし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良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不十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再検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テキスト ボックス 7"/>
          <p:cNvSpPr/>
          <p:nvPr/>
        </p:nvSpPr>
        <p:spPr>
          <a:xfrm>
            <a:off x="5247720" y="1541520"/>
            <a:ext cx="17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・ほぼすべてに渡り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C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0.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程度高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・追加課題については、大きな差が発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テキスト ボックス 8"/>
          <p:cNvSpPr/>
          <p:nvPr/>
        </p:nvSpPr>
        <p:spPr>
          <a:xfrm>
            <a:off x="1819440" y="5106960"/>
            <a:ext cx="4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参加チームが多く、開催回数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多い地区ほど評価が高い傾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こ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10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間のモデル進化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D8CE-5FBE-4C7C-A9A3-E228CB715346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図 4" descr="modelcocept.jpg"/>
          <p:cNvPicPr/>
          <p:nvPr/>
        </p:nvPicPr>
        <p:blipFill>
          <a:blip r:embed="rId1"/>
          <a:stretch/>
        </p:blipFill>
        <p:spPr>
          <a:xfrm>
            <a:off x="168120" y="955800"/>
            <a:ext cx="86202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04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優勝モデル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F96B-CCF9-4D51-8701-147828E41E1C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2660760" y="1332000"/>
            <a:ext cx="3944880" cy="3132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122400" y="3514680"/>
            <a:ext cx="4244760" cy="2805120"/>
          </a:xfrm>
          <a:prstGeom prst="rect">
            <a:avLst/>
          </a:prstGeom>
          <a:ln w="0">
            <a:noFill/>
          </a:ln>
        </p:spPr>
      </p:pic>
      <p:grpSp>
        <p:nvGrpSpPr>
          <p:cNvPr id="226" name="グループ化 6"/>
          <p:cNvGrpSpPr/>
          <p:nvPr/>
        </p:nvGrpSpPr>
        <p:grpSpPr>
          <a:xfrm>
            <a:off x="4494240" y="3603600"/>
            <a:ext cx="4425840" cy="2577960"/>
            <a:chOff x="4494240" y="3603600"/>
            <a:chExt cx="4425840" cy="2577960"/>
          </a:xfrm>
        </p:grpSpPr>
        <p:pic>
          <p:nvPicPr>
            <p:cNvPr id="227" name="Picture 4" descr=""/>
            <p:cNvPicPr/>
            <p:nvPr/>
          </p:nvPicPr>
          <p:blipFill>
            <a:blip r:embed="rId3"/>
            <a:stretch/>
          </p:blipFill>
          <p:spPr>
            <a:xfrm>
              <a:off x="4494240" y="3603600"/>
              <a:ext cx="2498400" cy="25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5" descr=""/>
            <p:cNvPicPr/>
            <p:nvPr/>
          </p:nvPicPr>
          <p:blipFill>
            <a:blip r:embed="rId4"/>
            <a:stretch/>
          </p:blipFill>
          <p:spPr>
            <a:xfrm>
              <a:off x="7156440" y="3891600"/>
              <a:ext cx="1763640" cy="218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Text Box 8"/>
          <p:cNvSpPr/>
          <p:nvPr/>
        </p:nvSpPr>
        <p:spPr>
          <a:xfrm>
            <a:off x="626760" y="3876840"/>
            <a:ext cx="61020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4281840" y="1693800"/>
            <a:ext cx="61020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7906680" y="3479760"/>
            <a:ext cx="82368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振舞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7:17:52Z</dcterms:created>
  <dc:creator>watanabe</dc:creator>
  <dc:description/>
  <dc:language>en-US</dc:language>
  <cp:lastModifiedBy>Natsumi Horii</cp:lastModifiedBy>
  <dcterms:modified xsi:type="dcterms:W3CDTF">2012-02-17T09:49:45Z</dcterms:modified>
  <cp:revision>414</cp:revision>
  <dc:subject/>
  <dc:title>ETロボコン公式教材 （その１） モデルの描き方トレーニング</dc:title>
</cp:coreProperties>
</file>